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DEC-6780-4CB4-B4DC-6EECEAED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E83-4EEF-4630-AABD-FC0E084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522-0804-4F22-89CE-E79A9D17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656-849B-4590-B9E3-87199585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BB37-C1AD-4214-80D6-F67B3D67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1C97-29FA-4F02-A9A8-0CAE5598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6C8-8062-4106-9098-D12AF01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C2A9-44AB-44DF-A8B7-AC30253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0587-9F21-4F0B-BC4A-B2CAF76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E01-FA84-4695-9D39-1823C2D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3A5-189C-417C-AD97-04EE5CB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F5C-3080-476C-93CA-458FC0B3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3E58-50D1-4FD7-8BDC-7B90F85E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A602-226A-4CF5-BF3A-367586D6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8BC1-A34B-42BD-A178-BEE501F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E13-9F81-4080-9FC5-832CC18B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6F7A-E59A-420D-BACD-AC97B1EB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B4828-0CEA-426E-80AA-126DE67C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FB916-D0DA-484D-8425-2DDA88A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C8692-BDDB-40DA-95F3-4C49B973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F04B8-518E-4E39-A197-B3B68741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9A18D-57EF-497E-9946-FE65705E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687-1272-445A-80C0-342AB13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7F7CA-F34F-4CD4-BF8E-BDF0C58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F5158-087F-4C74-B398-88C4CA9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71269-C047-4ADC-A69F-8120222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0E665-814D-433B-863E-13E89B2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FC004-D15C-41D0-8B05-BA503040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FB4B6-4B98-4354-BEA2-C1ACC86D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3C6A7-2624-435D-AC57-6E073762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16A0-54DF-4FCE-B49A-3C5B2616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9E40-3B5E-44BA-A6AF-5DCB52B6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262A-4398-470E-B019-2807DB5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33B-A6D9-4460-B999-7FF56EE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6775-8344-4CFB-939A-173C57FD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F382-F138-45B4-BD86-121825FC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DF9D-CB02-4FAE-91B3-F37F8336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F6C9-98EB-41CE-A0C9-B21914E9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D792-9B8C-44AE-B395-DC30BAEF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FE07-4F94-4D7C-99CF-94346E9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E6EF-9E07-44B5-8463-48C176D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B719-313F-4CB1-8811-30678439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D94A-E6D0-40EB-96D0-C1277FAC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2A4EC-91CE-4728-A468-255B5DAF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3EA-CAE5-49FE-ADF4-1FB5968B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28BE4-3C38-4483-8616-20CCE73B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43DAF-095B-4C44-9FFA-5730DF71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633B9-F4C6-4313-B3B3-B03DB24A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AE24A-A752-49FC-BAA6-A61B9D57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9A3C7-1A4D-4DF1-83EB-8E8F945F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04D44-D872-4B37-BCE7-96803CF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C6846-9152-4421-8A8C-266C593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DC353-7E2C-412B-BD02-0D98DC5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2B270-86A5-4836-A590-C2F6D64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FAEA4-9D23-413A-B886-E59A260D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4FD-8ACA-4AC6-A56D-48E56C6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E40A9-0C10-4B58-AE7A-AD7A50C7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E0B76-45F3-45B9-B83C-E83D073E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F21D2-B92A-424A-A987-3656CD46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B8291-ADB3-4E75-A464-0F63BC0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ACE24-A7BD-4B8D-A606-3683E728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8C810-9C20-4847-B69F-30F4A2AC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73170-F8FB-4823-8C7C-471A9F44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3FA9F-6878-44C4-9164-D4E3ADD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1B1C2-1A0C-4F44-83AA-88E7669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8D6DC-8B2E-4383-A32B-7421FEB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D80-00D5-4190-87A7-8E64504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550C7-3484-46C1-AD29-54C0F06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3DA24-5875-4A06-A31A-DC7C6307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2333C-1D4B-48EF-93CF-D4276D16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78958-FD69-4E1A-9173-6CE07C6D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29E16-F831-4B28-932D-9552FE96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E2688-2244-43C1-81B9-91A18555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4F2AB-9CD6-4588-9271-EE95ABEB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42ADB-2BCA-495F-A196-F73FD3C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CE714-DF62-4339-81B5-C93F5B3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E0616-AC92-4284-A8B8-CA24703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129-470A-414D-885C-747B4105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6656F-DF5D-4250-9607-318D781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6AE32-3893-4F86-8047-11168A5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5D4C9-44C4-4A68-BD14-AAB78D5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9F886-A12E-4554-A63C-3E2D81C6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43A01-00E1-4B2E-AE41-C7B4EC10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A74-6A8F-4312-B5FF-B0059FA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4D4-C446-44F6-B61F-3B1FBB2A832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17D-D167-42B7-9097-5D46338062A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0F3C-752B-4793-A437-4FCF6683257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04E1-6C00-459B-A536-395215E55BA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259-EA52-4A7C-9943-8247CAE6A0B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9F77-4A93-4A81-9858-615450B8E7D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A86B-26EE-4C3F-B522-D13A9FE3703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EMA 25 - AVALIAÇÃO COM O USO DAS TECNOLOGIAS EDUCACIONA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2492280"/>
            <a:ext cx="605952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ETEC Eliane Nev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. E. João Ribeiro Guimarã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Bandeirantes - 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68000" y="333360"/>
            <a:ext cx="806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ormas de avaliar usando as TIC na E.E. João Ribeiro Guimarães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Uso da Plataforma Moodle usando as ferramentas: Fórum, Chat, Wiki, Envio de taref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Após disposição de conteúdos na plataforma Moolde, autoria dos alunos usando editor de texto e o Impres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Filmes da Youtube/TV Escola, com finalidade na aprendizagem, desenvolvendo questionários, elaboração de teatros, produções de textos, et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ITUAÇÕES DE AVALIAÇÃO NA EEJRG COM USO DAS TIC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Envio de arquivo único – Plataforma Moodle – Onde alguns professores avaliam e dão devolutivas aos alun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Conselho de classe através do Google Driv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Avaliações Institucionais: SAIEMS, OBMEP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so da ferramenta Fórum -  Plataforma Moolde – Onde após o conteúdo explicado, o aluno deixa sua contribuição e é avaliado pelo profess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12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RIENTAÇÕ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79280" y="62028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so do Google Drive, onde o professor pode contar com gráficos demonstrando a aprendizagem de cada alun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tilizar as ferramentas da Plataforma Moolde como sua aliada na hora da avaliação usando por exemplo o recurso do questionári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Trabalhar mais a autoria dos alunos usando o editor de texto (writer) ou o Impress. Após, avaliá-los mediante a exposição dos trabalh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* Uso do blog com questionários visando a devolutiva para melhoria da aprendizagem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9:13:16Z</dcterms:created>
  <dc:creator>ElianeRaul</dc:creator>
  <dc:description/>
  <dc:language>en-US</dc:language>
  <cp:lastModifiedBy>ElianeRaul</cp:lastModifiedBy>
  <dcterms:modified xsi:type="dcterms:W3CDTF">2015-09-01T01:07:03Z</dcterms:modified>
  <cp:revision>10</cp:revision>
  <dc:subject/>
  <dc:title>Tema 25 - Avaliação com o uso das Tecnologias Educacionais</dc:title>
</cp:coreProperties>
</file>